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06E-830A-459A-BA51-422AC94A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817-134D-479D-B81A-31933B8E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FC6-2C16-44B3-BBC4-77C5FE01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A18-30E9-411F-B6A3-24F05012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69D-F1DD-425D-B871-7BE6C279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3A8-34A4-4B7A-AB29-C6D900B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C96-BF29-4D37-B52B-9ABA04D3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467-474D-495D-968E-D47AD33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63F-E0D3-4F79-B2DF-3B6B2D47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E25-DE27-41E4-AB6D-B6B1F52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2FE-92E9-4A2A-817F-7327CBD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944-2073-4656-92D2-E7F04E1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A109-D013-4707-B532-CC1B4C0D1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synony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ye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AGOPLD5CAL7S2P6CATZ9PF7CAM3QQJOCAFU19W2CAZTB0XJCAUNFFNLCAT91JIUCAP2NSOSCAQVJ9OJCAVUW3W6CAOUZRGFCAIYQ4C5CAZF6OZLCAA1VPIQCA3HZRDTCAKRZ363CA91A01TCAJGF9RICACF0XD8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Line 16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Point 1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Heart blue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3"/>
          <p:cNvSpPr/>
          <p:nvPr/>
        </p:nvSpPr>
        <p:spPr>
          <a:xfrm>
            <a:off x="2268360" y="3500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sy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nonym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5400" spc="-1" strike="noStrike">
                <a:solidFill>
                  <a:srgbClr val="008000"/>
                </a:solidFill>
                <a:latin typeface="Arial"/>
              </a:rPr>
              <a:t>si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m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2411280" y="522936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a similar mea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2"/>
          <p:cNvSpPr/>
          <p:nvPr/>
        </p:nvSpPr>
        <p:spPr>
          <a:xfrm>
            <a:off x="2214720" y="1571760"/>
            <a:ext cx="23749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no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3" descr="Box02 v2"/>
          <p:cNvPicPr/>
          <p:nvPr/>
        </p:nvPicPr>
        <p:blipFill>
          <a:blip r:embed="rId5"/>
          <a:stretch/>
        </p:blipFill>
        <p:spPr>
          <a:xfrm>
            <a:off x="5076720" y="1628640"/>
            <a:ext cx="1897200" cy="149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5"/>
          <p:cNvSpPr/>
          <p:nvPr/>
        </p:nvSpPr>
        <p:spPr>
          <a:xfrm>
            <a:off x="7093080" y="1628640"/>
            <a:ext cx="180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8000"/>
                </a:solidFill>
                <a:latin typeface="Arial"/>
              </a:rPr>
              <a:t>c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8000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2"/>
          <p:cNvSpPr/>
          <p:nvPr/>
        </p:nvSpPr>
        <p:spPr>
          <a:xfrm>
            <a:off x="2214720" y="228600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 Susan de Lautour</cp:lastModifiedBy>
  <dcterms:modified xsi:type="dcterms:W3CDTF">2010-02-28T16:36:18Z</dcterms:modified>
  <cp:revision>34</cp:revision>
  <dc:subject/>
  <dc:title>Simile</dc:title>
</cp:coreProperties>
</file>